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0CC3-22B3-4494-98CC-90F7B0D6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F54E-6925-4E2D-84AA-B6AF0BBF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6E2F-A205-4B16-A28F-1876E555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2499-FA37-4AF2-85BA-44CE83B5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7112-5A01-405B-8DD3-058F65AF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11B6-49EE-44D7-9ADE-A0D85392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7A85-3564-491F-AA7E-0345A79D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2182-233C-405C-AA47-CCAC7504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A41F-9FA0-4360-BEFF-D0D1CF4E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0531-424B-4631-82AC-0909FE60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A7BB-E9B5-4D45-B0E4-6170776C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AC58-330E-40DC-95E2-2C14D96B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1B68-7737-4E8C-8478-3EE208F3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A185-2C1D-48BB-8358-67C4A139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02DD-7992-4F8D-B121-F95783B1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5A3C-2AA3-42F7-83A1-98D89082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52FA-84B5-48E3-A3A6-3916F654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72C2F-EEF4-4588-A336-B2C35915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2A1DA-60E7-4BE3-903A-B6943889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B7CA4-DE10-46FF-8ACD-73A28C2E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8CDDE-C54D-4A7A-B3F8-60A10006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32B10-3905-49AE-A37E-A7178187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58F6-6C63-4ABA-8EE5-BBCAC21B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A7C52-2E62-47B1-8C88-C6D6FF10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DC2CB-6835-48F6-AFFE-4514E496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CA199-FB3E-4B6F-8A4C-2D1B709F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AD32D-70E5-49AB-AF70-1D1EA394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601D2-F326-4CA7-A1CE-A4F9548B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76D5D-2626-42F0-AB52-567245E0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2EFC6-768A-4F5C-8F1C-219C2583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3FB78-7EE8-40D4-BB5A-ECBFDD3D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D0BE4-3E47-4249-9717-CFBB4E79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DC4F4-B6CB-47C4-B144-67792BAC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FA8D-6953-472F-B79B-A45931E2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60A33-368D-48E2-B746-4239206B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37D00-6988-49E1-BF60-6CDDF756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D4C05-A599-4C36-AC11-C69CF2C9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B9822-3800-45EB-B718-1B64E5FA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BBAB5-47E2-4E6C-9461-7918B776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FA2AC-391A-4A43-9E63-FC17EC31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052AE-21CD-4F74-A029-A2B630C4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74441-8924-457F-B990-029DDD23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151FA-B9D2-4501-8EAB-BB41033D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1FBC5-4FE3-4D45-A7E9-70B1AFE0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D67D-55FA-4347-B0DF-D0AED8BE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2C335-A921-4931-8A0C-F5E396B3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CA190-8FC3-423B-AE52-ABF68C4F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E860C-17BA-4DB8-80DC-BBBFE26A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B764D-5C22-401D-9860-E3B56BC1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0563C-CACA-4B1E-8F6A-0CA2D8B1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A2049-9CD4-48C5-B6ED-861DBC4D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3FBB9-39CA-4F3C-9A20-3FD294ED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3492A-EDEF-45BB-AE24-AF859EE7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A8B4B-D404-4E8E-A9AD-8F28EC88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110CB-BF16-4C01-9746-68A89943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E7B0-2882-4FFA-80C4-A142EFCC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8DFB9-551D-4EA1-92B2-2B967FA8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5490A-3EBF-484A-9E9F-804D1027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60AF2-55EC-4766-A29A-ED40F084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63309-F2EC-4351-909B-2E2D0AF1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F3841-F90E-48C4-BFC4-DD7E159D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71832-1DA5-433F-9701-FC888726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ECFA5-BA83-4F41-86B3-346BAE83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FFCBF-C1FD-4B37-8B8C-742032B6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76A99-7708-414B-81D0-E6DB8305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7F0B2-002B-422D-A125-8B31E81E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6F85-3340-4015-BF6B-BB68873E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4670A-8137-4200-A296-2065C712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7B75F-CAB6-462D-A94A-2017CC9D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6F114-9101-4175-91A7-7F4B588A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6411-4667-4519-9719-DF1B7A0B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AFBC-2E98-4303-939B-01D4C774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d38e27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DB52-1D99-4BEC-A250-DDAD19D8DCF3}" type="slidenum">
              <a:rPr b="0" lang="hu-HU" sz="1200" spc="-1" strike="noStrike">
                <a:solidFill>
                  <a:srgbClr val="d38e2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Straight Connector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d38e27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E2B8-932A-4548-BDD2-E08375C5D307}" type="slidenum">
              <a:rPr b="0" lang="hu-HU" sz="1200" spc="-1" strike="noStrike">
                <a:solidFill>
                  <a:srgbClr val="d38e2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d38e27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CB70-9D02-4C31-879C-BF139C25B691}" type="slidenum">
              <a:rPr b="0" lang="hu-HU" sz="1200" spc="-1" strike="noStrike">
                <a:solidFill>
                  <a:srgbClr val="d38e2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Straight Connector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d38e27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6C3A-F081-4F8D-963F-05F3839BB92C}" type="slidenum">
              <a:rPr b="0" lang="hu-HU" sz="1200" spc="-1" strike="noStrike">
                <a:solidFill>
                  <a:srgbClr val="d38e2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Straight Connector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d38e27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E5CE-2C3E-440F-916E-30F901DDF3A7}" type="slidenum">
              <a:rPr b="0" lang="hu-HU" sz="1200" spc="-1" strike="noStrike">
                <a:solidFill>
                  <a:srgbClr val="d38e2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Straight Connector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d38e27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d38e27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A55E-7C12-45DE-89A5-25CD68462BE7}" type="slidenum">
              <a:rPr b="0" lang="hu-HU" sz="1200" spc="-1" strike="noStrike">
                <a:solidFill>
                  <a:srgbClr val="d38e27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Plan_unitate/Unit_Plan_Template_RO.doc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Asisten&#355;&#259;_unitate/bro&#351;ura%20nou.pub" TargetMode="External"/><Relationship Id="rId2" Type="http://schemas.openxmlformats.org/officeDocument/2006/relationships/hyperlink" Target="file:///Asisten&#355;&#259;_unitate/Prezentare%20model%20cinderella.ppt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Evaluare/Test%20ini&#355;ial.doc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408960" y="-21960"/>
            <a:ext cx="7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7"/>
          <p:cNvSpPr/>
          <p:nvPr/>
        </p:nvSpPr>
        <p:spPr>
          <a:xfrm>
            <a:off x="1348920" y="1143000"/>
            <a:ext cx="6584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ff"/>
                </a:solidFill>
                <a:latin typeface="Tekton Pro"/>
              </a:rPr>
              <a:t>Poveşti</a:t>
            </a:r>
            <a:r>
              <a:rPr b="1" lang="ro-RO" sz="3200" spc="-1" strike="noStrike">
                <a:solidFill>
                  <a:srgbClr val="0000ff"/>
                </a:solidFill>
                <a:latin typeface="Tekton Pro"/>
              </a:rPr>
              <a:t> </a:t>
            </a:r>
            <a:r>
              <a:rPr b="1" lang="ro-RO" sz="4000" spc="-1" strike="noStrike">
                <a:solidFill>
                  <a:srgbClr val="0000ff"/>
                </a:solidFill>
                <a:latin typeface="Tekton Pro"/>
              </a:rPr>
              <a:t>pentru noi, copii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ff"/>
                </a:solidFill>
                <a:latin typeface="Tekton Pr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8"/>
          <p:cNvSpPr/>
          <p:nvPr/>
        </p:nvSpPr>
        <p:spPr>
          <a:xfrm>
            <a:off x="801000" y="2071800"/>
            <a:ext cx="497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rebuchet MS"/>
              </a:rPr>
              <a:t>CLA SA  A  VI-A  B, ANUL  IV DE STUD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rebuchet MS"/>
              </a:rPr>
              <a:t>NUM</a:t>
            </a:r>
            <a:r>
              <a:rPr b="1" lang="ro-RO" sz="2000" spc="-1" strike="noStrike">
                <a:solidFill>
                  <a:srgbClr val="000000"/>
                </a:solidFill>
                <a:latin typeface="Trebuchet MS"/>
              </a:rPr>
              <a:t>ĂR  ORE ALOCATE :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rebuchet MS"/>
              </a:rPr>
              <a:t>PROFESOR  SIMONFI  IMOLA - JU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9" descr="ugly_duckling_small.jpg"/>
          <p:cNvPicPr/>
          <p:nvPr/>
        </p:nvPicPr>
        <p:blipFill>
          <a:blip r:embed="rId1"/>
          <a:stretch/>
        </p:blipFill>
        <p:spPr>
          <a:xfrm>
            <a:off x="1881360" y="314316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églalap 1"/>
          <p:cNvSpPr/>
          <p:nvPr/>
        </p:nvSpPr>
        <p:spPr>
          <a:xfrm>
            <a:off x="3154320" y="571680"/>
            <a:ext cx="20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ory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Kép 2" descr="P1010356.JPG"/>
          <p:cNvPicPr/>
          <p:nvPr/>
        </p:nvPicPr>
        <p:blipFill>
          <a:blip r:embed="rId1"/>
          <a:stretch/>
        </p:blipFill>
        <p:spPr>
          <a:xfrm>
            <a:off x="642960" y="1143000"/>
            <a:ext cx="7977240" cy="5500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1"/>
          <p:cNvSpPr/>
          <p:nvPr/>
        </p:nvSpPr>
        <p:spPr>
          <a:xfrm>
            <a:off x="2437200" y="571680"/>
            <a:ext cx="4626360" cy="398880"/>
          </a:xfrm>
          <a:prstGeom prst="rect">
            <a:avLst/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Georgia"/>
              </a:rPr>
              <a:t>BIBLIOGRAFIE, RESURSE 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zövegdoboz 2"/>
          <p:cNvSpPr/>
          <p:nvPr/>
        </p:nvSpPr>
        <p:spPr>
          <a:xfrm>
            <a:off x="581040" y="157176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ibliograf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zövegdoboz 3"/>
          <p:cNvSpPr/>
          <p:nvPr/>
        </p:nvSpPr>
        <p:spPr>
          <a:xfrm>
            <a:off x="4665240" y="1500120"/>
            <a:ext cx="37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Wikiul clase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://fablesenglish.wikispac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zövegdoboz 4"/>
          <p:cNvSpPr/>
          <p:nvPr/>
        </p:nvSpPr>
        <p:spPr>
          <a:xfrm>
            <a:off x="3080880" y="2571840"/>
            <a:ext cx="21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Ă MULŢUM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Kép 5" descr="P1010357.JPG"/>
          <p:cNvPicPr/>
          <p:nvPr/>
        </p:nvPicPr>
        <p:blipFill>
          <a:blip r:embed="rId1"/>
          <a:stretch/>
        </p:blipFill>
        <p:spPr>
          <a:xfrm>
            <a:off x="1857240" y="3000240"/>
            <a:ext cx="4857840" cy="3857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Kép 1" descr="P1010351.JPG"/>
          <p:cNvPicPr/>
          <p:nvPr/>
        </p:nvPicPr>
        <p:blipFill>
          <a:blip r:embed="rId1"/>
          <a:stretch/>
        </p:blipFill>
        <p:spPr>
          <a:xfrm>
            <a:off x="0" y="0"/>
            <a:ext cx="4357800" cy="3268800"/>
          </a:xfrm>
          <a:prstGeom prst="rect">
            <a:avLst/>
          </a:prstGeom>
          <a:ln w="0">
            <a:noFill/>
          </a:ln>
        </p:spPr>
      </p:pic>
      <p:pic>
        <p:nvPicPr>
          <p:cNvPr id="371" name="Kép 2" descr="P1010354.JPG"/>
          <p:cNvPicPr/>
          <p:nvPr/>
        </p:nvPicPr>
        <p:blipFill>
          <a:blip r:embed="rId2"/>
          <a:stretch/>
        </p:blipFill>
        <p:spPr>
          <a:xfrm>
            <a:off x="4786200" y="0"/>
            <a:ext cx="4357800" cy="3268800"/>
          </a:xfrm>
          <a:prstGeom prst="rect">
            <a:avLst/>
          </a:prstGeom>
          <a:ln w="0">
            <a:noFill/>
          </a:ln>
        </p:spPr>
      </p:pic>
      <p:pic>
        <p:nvPicPr>
          <p:cNvPr id="372" name="Kép 3" descr="P1010355.JPG"/>
          <p:cNvPicPr/>
          <p:nvPr/>
        </p:nvPicPr>
        <p:blipFill>
          <a:blip r:embed="rId3"/>
          <a:stretch/>
        </p:blipFill>
        <p:spPr>
          <a:xfrm>
            <a:off x="0" y="3500280"/>
            <a:ext cx="4000680" cy="3000600"/>
          </a:xfrm>
          <a:prstGeom prst="rect">
            <a:avLst/>
          </a:prstGeom>
          <a:ln w="0">
            <a:noFill/>
          </a:ln>
        </p:spPr>
      </p:pic>
      <p:pic>
        <p:nvPicPr>
          <p:cNvPr id="373" name="Kép 4" descr="P1010342.JPG"/>
          <p:cNvPicPr/>
          <p:nvPr/>
        </p:nvPicPr>
        <p:blipFill>
          <a:blip r:embed="rId4"/>
          <a:stretch/>
        </p:blipFill>
        <p:spPr>
          <a:xfrm>
            <a:off x="5000760" y="3500280"/>
            <a:ext cx="4143240" cy="3106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1"/>
          <p:cNvSpPr/>
          <p:nvPr/>
        </p:nvSpPr>
        <p:spPr>
          <a:xfrm>
            <a:off x="2786040" y="428760"/>
            <a:ext cx="40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rebuchet MS"/>
              </a:rPr>
              <a:t>Poveşti pentru noi, copi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428760" y="1214280"/>
            <a:ext cx="735624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70c0"/>
                </a:solidFill>
                <a:latin typeface="Georgia"/>
              </a:rPr>
              <a:t>Întrebări esenţiale pentru no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Trebuchet MS"/>
              </a:rPr>
              <a:t>Cum m-aş putea cunoaşte mai bine şi cum aş putea înţelege lumea înconjurătoar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Trebuchet MS"/>
              </a:rPr>
              <a:t>Cum crează scriitorii lumea fabulelo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Trebuchet MS"/>
              </a:rPr>
              <a:t>În ce măsură este literatura relevantă pentru felul în care trăim, gândim şi acţionă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70c0"/>
                </a:solidFill>
                <a:latin typeface="Georgia"/>
              </a:rPr>
              <a:t>Întrebare esenţială  a unităţi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400" spc="-1" strike="noStrike">
                <a:solidFill>
                  <a:srgbClr val="000000"/>
                </a:solidFill>
                <a:latin typeface="Tahoma"/>
              </a:rPr>
              <a:t>Cât de greu poate fi, să scriem poveşti în limba englez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70c0"/>
                </a:solidFill>
                <a:latin typeface="Georgia"/>
              </a:rPr>
              <a:t>Întrebări de conţinu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rebuchet MS"/>
              </a:rPr>
              <a:t>Care sunt trăsăturile secifice ale unei fabu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rebuchet MS"/>
              </a:rPr>
              <a:t>Care sunt elementele care disting o fabulă de o poves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rebuchet MS"/>
              </a:rPr>
              <a:t>Cum se aseamănă animalele vorbitoare cu oamenii din jurul nostru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rebuchet MS"/>
              </a:rPr>
              <a:t>Care sunt trăsăturile unui personaj fantastic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Trebuchet MS"/>
              </a:rPr>
              <a:t>Cum  planificăm  o poveste sau  un basm / fabul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3" descr="Three-Little-Pigs3.jpg"/>
          <p:cNvPicPr/>
          <p:nvPr/>
        </p:nvPicPr>
        <p:blipFill>
          <a:blip r:embed="rId1"/>
          <a:stretch/>
        </p:blipFill>
        <p:spPr>
          <a:xfrm>
            <a:off x="4714920" y="3882960"/>
            <a:ext cx="4429080" cy="2975040"/>
          </a:xfrm>
          <a:prstGeom prst="rect">
            <a:avLst/>
          </a:prstGeom>
          <a:ln w="0">
            <a:noFill/>
          </a:ln>
        </p:spPr>
      </p:pic>
      <p:sp>
        <p:nvSpPr>
          <p:cNvPr id="319" name="Szövegdoboz 4"/>
          <p:cNvSpPr/>
          <p:nvPr/>
        </p:nvSpPr>
        <p:spPr>
          <a:xfrm>
            <a:off x="7083000" y="107172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ad1f1f"/>
                </a:solidFill>
                <a:uFillTx/>
                <a:latin typeface="Arial"/>
                <a:hlinkClick r:id="rId2"/>
              </a:rPr>
              <a:t>Planul unităţ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1"/>
          <p:cNvSpPr/>
          <p:nvPr/>
        </p:nvSpPr>
        <p:spPr>
          <a:xfrm>
            <a:off x="834840" y="500040"/>
            <a:ext cx="4138560" cy="520560"/>
          </a:xfrm>
          <a:prstGeom prst="rect">
            <a:avLst/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COMPETENŢE  VIZ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2"/>
          <p:cNvSpPr/>
          <p:nvPr/>
        </p:nvSpPr>
        <p:spPr>
          <a:xfrm>
            <a:off x="325800" y="1143000"/>
            <a:ext cx="8470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rebuchet MS"/>
              </a:rPr>
              <a:t>Alcătuirea unor enunțuri orale simple, ca răspunsuri la întrebă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rebuchet MS"/>
              </a:rPr>
              <a:t>Integrarea unor cuvinte noi în enunţuri prop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rebuchet MS"/>
              </a:rPr>
              <a:t>Producerea unor enunţuri simple, cu support verbal sau vizual, despre sin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rebuchet MS"/>
              </a:rPr>
              <a:t>persoane/ activităţi din universul imed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rebuchet MS"/>
              </a:rPr>
              <a:t>Desprinderea unor informaţii particulare dintr-un text scurt, conţinând lex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rebuchet MS"/>
              </a:rPr>
              <a:t>cunoscut, citit în gâ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rebuchet MS"/>
              </a:rPr>
              <a:t>Executarea unor indicaţii scrise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rebuchet MS"/>
              </a:rPr>
              <a:t>Redactarea unor mesaje simple pe baza unor cuvinte de sprij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"/>
          <p:cNvSpPr/>
          <p:nvPr/>
        </p:nvSpPr>
        <p:spPr>
          <a:xfrm>
            <a:off x="122040" y="4000680"/>
            <a:ext cx="8276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Elevii vor fi capabili s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-să recunoască personajele principale şi să le desc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-facă referire la charactristicile personajelor luate din characteristic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pecifice um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-alcătuiască finaluri alternative poveştilor/fabulelor stud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- alcătuiască fabule, poveşti lucrînd în echipă în limba englez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lcătuiască fabule în perechi, şi poate chiar pe cont propriu în limb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englez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642960" y="3500280"/>
            <a:ext cx="6143760" cy="520560"/>
          </a:xfrm>
          <a:prstGeom prst="rect">
            <a:avLst/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OBIECTIVE  OPERAŢIONA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1"/>
          <p:cNvSpPr/>
          <p:nvPr/>
        </p:nvSpPr>
        <p:spPr>
          <a:xfrm>
            <a:off x="3793320" y="500040"/>
            <a:ext cx="2197080" cy="459720"/>
          </a:xfrm>
          <a:prstGeom prst="rect">
            <a:avLst/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eorgia"/>
              </a:rPr>
              <a:t>ACTIVITĂŢI   </a:t>
            </a:r>
            <a:r>
              <a:rPr b="0" lang="ro-RO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"/>
          <p:cNvSpPr/>
          <p:nvPr/>
        </p:nvSpPr>
        <p:spPr>
          <a:xfrm>
            <a:off x="378000" y="150012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ff"/>
                </a:solidFill>
                <a:latin typeface="Trebuchet MS"/>
              </a:rPr>
              <a:t>PREGĂTIRE  PENTRU  DESFĂŞURAREA  PROIECTULU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280800" y="2000160"/>
            <a:ext cx="853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Test de evaluare iniţială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Brainstorming pe tema  părţilor componente,  cracteristicele  basm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şi a fabulelor,  scopul educativ al fabulelor, şi al importanţei lor în viaţ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copii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634320" y="3929040"/>
            <a:ext cx="44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ff"/>
                </a:solidFill>
                <a:latin typeface="Trebuchet MS"/>
              </a:rPr>
              <a:t>ÎN TIMPUL  DERULĂRII  PROIECTULU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303120" y="4357800"/>
            <a:ext cx="88326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665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zentarea planului proiectului, împărţirea pe grupe, explicarea modulu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ucru, precizarea modalităţilor de evaluare a proiectulu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 parcursul derulării proiectului se va monitoriza progresul făcut de elev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 discuţii pentru a vedea ce elevi au nevoie de îndrumări suplimen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1"/>
          <p:cNvSpPr/>
          <p:nvPr/>
        </p:nvSpPr>
        <p:spPr>
          <a:xfrm>
            <a:off x="3605400" y="500040"/>
            <a:ext cx="1665000" cy="398880"/>
          </a:xfrm>
          <a:prstGeom prst="rect">
            <a:avLst/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rebuchet MS"/>
              </a:rPr>
              <a:t>ACTIVITĂŢ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"/>
          <p:cNvSpPr/>
          <p:nvPr/>
        </p:nvSpPr>
        <p:spPr>
          <a:xfrm>
            <a:off x="19440" y="1571760"/>
            <a:ext cx="918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eorgia"/>
              </a:rPr>
              <a:t>Ulterior finalizării activităţii pentru proi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La terminarea proiectului elevii vor arăta colegilor  poveştile  şi desenele  realizate, v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discuta  deschis despre ele (feedback), vor discuta despre eventualele lipsuri ş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Modalităţi  de îmbunătăţire a proiectelo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Profesorul va evalua  poveştile şi  desenele elevilor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"/>
          <p:cNvSpPr/>
          <p:nvPr/>
        </p:nvSpPr>
        <p:spPr>
          <a:xfrm>
            <a:off x="192240" y="3214800"/>
            <a:ext cx="4056120" cy="398880"/>
          </a:xfrm>
          <a:prstGeom prst="rect">
            <a:avLst/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rebuchet MS"/>
              </a:rPr>
              <a:t>Detalii  ale unităţii de învăţ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"/>
          <p:cNvSpPr/>
          <p:nvPr/>
        </p:nvSpPr>
        <p:spPr>
          <a:xfrm>
            <a:off x="342360" y="4073400"/>
            <a:ext cx="784152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Georgia"/>
              </a:rPr>
              <a:t>Pregătirea pentru unitatea de învăţare – 1  or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Times New Roman"/>
              </a:rPr>
              <a:t>Se prezintă elevilor  </a:t>
            </a:r>
            <a:r>
              <a:rPr b="0" lang="ro-RO" sz="2000" spc="-1" strike="noStrike" u="sng">
                <a:solidFill>
                  <a:srgbClr val="ad1f1f"/>
                </a:solidFill>
                <a:uFillTx/>
                <a:latin typeface="Times New Roman"/>
                <a:hlinkClick r:id="rId1"/>
              </a:rPr>
              <a:t>broşura</a:t>
            </a:r>
            <a:r>
              <a:rPr b="1" i="1" lang="ro-RO" sz="2000" spc="-1" strike="noStrike">
                <a:solidFill>
                  <a:srgbClr val="000000"/>
                </a:solidFill>
                <a:latin typeface="Times New Roman"/>
              </a:rPr>
              <a:t> alcătuită de mine şi  </a:t>
            </a:r>
            <a:r>
              <a:rPr b="0" lang="ro-RO" sz="2000" spc="-1" strike="noStrike" u="sng">
                <a:solidFill>
                  <a:srgbClr val="ad1f1f"/>
                </a:solidFill>
                <a:uFillTx/>
                <a:latin typeface="Times New Roman"/>
                <a:hlinkClick r:id="rId2"/>
              </a:rPr>
              <a:t>exemplul </a:t>
            </a:r>
            <a:r>
              <a:rPr b="1" i="1" lang="ro-RO" sz="2000" spc="-1" strike="noStrike">
                <a:solidFill>
                  <a:srgbClr val="000000"/>
                </a:solidFill>
                <a:latin typeface="Times New Roman"/>
              </a:rPr>
              <a:t>creat di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Times New Roman"/>
              </a:rPr>
              <a:t>perspectiva elevului. Elevii vor da şi testul  de  evaluare  iniţial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1"/>
          <p:cNvSpPr/>
          <p:nvPr/>
        </p:nvSpPr>
        <p:spPr>
          <a:xfrm>
            <a:off x="2462400" y="428760"/>
            <a:ext cx="4135320" cy="398880"/>
          </a:xfrm>
          <a:prstGeom prst="rect">
            <a:avLst/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rebuchet MS"/>
              </a:rPr>
              <a:t>Conţinutul unităţii de învăţare</a:t>
            </a:r>
            <a:r>
              <a:rPr b="0" lang="ro-RO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TextBox 2" descr=""/>
          <p:cNvPicPr/>
          <p:nvPr/>
        </p:nvPicPr>
        <p:blipFill>
          <a:blip r:embed="rId1"/>
          <a:stretch/>
        </p:blipFill>
        <p:spPr>
          <a:xfrm>
            <a:off x="328680" y="1378080"/>
            <a:ext cx="1987560" cy="517320"/>
          </a:xfrm>
          <a:prstGeom prst="rect">
            <a:avLst/>
          </a:prstGeom>
          <a:ln w="0">
            <a:noFill/>
          </a:ln>
        </p:spPr>
      </p:pic>
      <p:sp>
        <p:nvSpPr>
          <p:cNvPr id="335" name="TextBox 7"/>
          <p:cNvSpPr/>
          <p:nvPr/>
        </p:nvSpPr>
        <p:spPr>
          <a:xfrm>
            <a:off x="421560" y="1928880"/>
            <a:ext cx="326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 u="sng">
                <a:solidFill>
                  <a:srgbClr val="660033"/>
                </a:solidFill>
                <a:uFillTx/>
                <a:latin typeface="Trebuchet MS"/>
              </a:rPr>
              <a:t>The Hares and the Fr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TextBox 8" descr=""/>
          <p:cNvPicPr/>
          <p:nvPr/>
        </p:nvPicPr>
        <p:blipFill>
          <a:blip r:embed="rId2"/>
          <a:stretch/>
        </p:blipFill>
        <p:spPr>
          <a:xfrm>
            <a:off x="401760" y="2517840"/>
            <a:ext cx="1609560" cy="7984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3"/>
          <p:cNvSpPr/>
          <p:nvPr/>
        </p:nvSpPr>
        <p:spPr>
          <a:xfrm>
            <a:off x="464400" y="3071880"/>
            <a:ext cx="40305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 u="sng">
                <a:solidFill>
                  <a:srgbClr val="660033"/>
                </a:solidFill>
                <a:uFillTx/>
                <a:latin typeface="Trebuchet MS"/>
              </a:rPr>
              <a:t>The man and the wooden God</a:t>
            </a:r>
            <a:r>
              <a:rPr b="0" lang="hu-H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6"/>
          <p:cNvSpPr/>
          <p:nvPr/>
        </p:nvSpPr>
        <p:spPr>
          <a:xfrm>
            <a:off x="564480" y="41432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9" descr="HARES.jpg"/>
          <p:cNvPicPr/>
          <p:nvPr/>
        </p:nvPicPr>
        <p:blipFill>
          <a:blip r:embed="rId3"/>
          <a:stretch/>
        </p:blipFill>
        <p:spPr>
          <a:xfrm>
            <a:off x="5715000" y="1143000"/>
            <a:ext cx="3201840" cy="27147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1" descr="WOODEN GOD.JPG"/>
          <p:cNvPicPr/>
          <p:nvPr/>
        </p:nvPicPr>
        <p:blipFill>
          <a:blip r:embed="rId4"/>
          <a:stretch/>
        </p:blipFill>
        <p:spPr>
          <a:xfrm>
            <a:off x="428760" y="3629160"/>
            <a:ext cx="1643040" cy="32288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2" descr="wooden-idol_2.jpg"/>
          <p:cNvPicPr/>
          <p:nvPr/>
        </p:nvPicPr>
        <p:blipFill>
          <a:blip r:embed="rId5"/>
          <a:stretch/>
        </p:blipFill>
        <p:spPr>
          <a:xfrm>
            <a:off x="2643120" y="3643200"/>
            <a:ext cx="2700360" cy="3214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extBox 1" descr=""/>
          <p:cNvPicPr/>
          <p:nvPr/>
        </p:nvPicPr>
        <p:blipFill>
          <a:blip r:embed="rId1"/>
          <a:stretch/>
        </p:blipFill>
        <p:spPr>
          <a:xfrm>
            <a:off x="189000" y="1090440"/>
            <a:ext cx="1603440" cy="798840"/>
          </a:xfrm>
          <a:prstGeom prst="rect">
            <a:avLst/>
          </a:prstGeom>
          <a:ln w="0">
            <a:noFill/>
          </a:ln>
        </p:spPr>
      </p:pic>
      <p:sp>
        <p:nvSpPr>
          <p:cNvPr id="343" name="TextBox 2"/>
          <p:cNvSpPr/>
          <p:nvPr/>
        </p:nvSpPr>
        <p:spPr>
          <a:xfrm>
            <a:off x="302400" y="1571760"/>
            <a:ext cx="593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vi-VN" sz="1800" spc="-1" strike="noStrike">
                <a:solidFill>
                  <a:srgbClr val="000000"/>
                </a:solidFill>
                <a:latin typeface="Times New Roman"/>
              </a:rPr>
              <a:t>două poveşti rescrise de către copii: </a:t>
            </a:r>
            <a:r>
              <a:rPr b="1" lang="ro-RO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vi-VN" sz="2000" spc="-1" strike="noStrike" u="sng">
                <a:solidFill>
                  <a:srgbClr val="660033"/>
                </a:solidFill>
                <a:uFillTx/>
                <a:latin typeface="Times New Roman"/>
              </a:rPr>
              <a:t>The ugly duck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TextBox 4" descr=""/>
          <p:cNvPicPr/>
          <p:nvPr/>
        </p:nvPicPr>
        <p:blipFill>
          <a:blip r:embed="rId2"/>
          <a:stretch/>
        </p:blipFill>
        <p:spPr>
          <a:xfrm>
            <a:off x="189000" y="2011320"/>
            <a:ext cx="4011480" cy="530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2007UglyDuckling.jpg"/>
          <p:cNvPicPr/>
          <p:nvPr/>
        </p:nvPicPr>
        <p:blipFill>
          <a:blip r:embed="rId3"/>
          <a:stretch/>
        </p:blipFill>
        <p:spPr>
          <a:xfrm>
            <a:off x="0" y="2857680"/>
            <a:ext cx="4429080" cy="3403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ugly_duck.jpg"/>
          <p:cNvPicPr/>
          <p:nvPr/>
        </p:nvPicPr>
        <p:blipFill>
          <a:blip r:embed="rId4"/>
          <a:stretch/>
        </p:blipFill>
        <p:spPr>
          <a:xfrm>
            <a:off x="8031240" y="0"/>
            <a:ext cx="1112760" cy="17748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three-little-pigs.jpg"/>
          <p:cNvPicPr/>
          <p:nvPr/>
        </p:nvPicPr>
        <p:blipFill>
          <a:blip r:embed="rId5"/>
          <a:stretch/>
        </p:blipFill>
        <p:spPr>
          <a:xfrm>
            <a:off x="4500720" y="3189240"/>
            <a:ext cx="4643280" cy="3668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églalap 1" descr=""/>
          <p:cNvPicPr/>
          <p:nvPr/>
        </p:nvPicPr>
        <p:blipFill>
          <a:blip r:embed="rId1"/>
          <a:stretch/>
        </p:blipFill>
        <p:spPr>
          <a:xfrm>
            <a:off x="371520" y="1249200"/>
            <a:ext cx="1208160" cy="414360"/>
          </a:xfrm>
          <a:prstGeom prst="rect">
            <a:avLst/>
          </a:prstGeom>
          <a:ln w="0">
            <a:noFill/>
          </a:ln>
        </p:spPr>
      </p:pic>
      <p:sp>
        <p:nvSpPr>
          <p:cNvPr id="349" name="Szövegdoboz 2"/>
          <p:cNvSpPr/>
          <p:nvPr/>
        </p:nvSpPr>
        <p:spPr>
          <a:xfrm>
            <a:off x="441360" y="164304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discu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ţii, brainstor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Téglalap 3" descr=""/>
          <p:cNvPicPr/>
          <p:nvPr/>
        </p:nvPicPr>
        <p:blipFill>
          <a:blip r:embed="rId2"/>
          <a:stretch/>
        </p:blipFill>
        <p:spPr>
          <a:xfrm>
            <a:off x="444600" y="2109960"/>
            <a:ext cx="1208160" cy="407880"/>
          </a:xfrm>
          <a:prstGeom prst="rect">
            <a:avLst/>
          </a:prstGeom>
          <a:ln w="0">
            <a:noFill/>
          </a:ln>
        </p:spPr>
      </p:pic>
      <p:sp>
        <p:nvSpPr>
          <p:cNvPr id="351" name="Szövegdoboz 4"/>
          <p:cNvSpPr/>
          <p:nvPr/>
        </p:nvSpPr>
        <p:spPr>
          <a:xfrm>
            <a:off x="519120" y="257184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-realizarea planului fabulei / basm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Téglalap 5" descr=""/>
          <p:cNvPicPr/>
          <p:nvPr/>
        </p:nvPicPr>
        <p:blipFill>
          <a:blip r:embed="rId3"/>
          <a:stretch/>
        </p:blipFill>
        <p:spPr>
          <a:xfrm>
            <a:off x="444600" y="2968560"/>
            <a:ext cx="1208160" cy="407880"/>
          </a:xfrm>
          <a:prstGeom prst="rect">
            <a:avLst/>
          </a:prstGeom>
          <a:ln w="0">
            <a:noFill/>
          </a:ln>
        </p:spPr>
      </p:pic>
      <p:sp>
        <p:nvSpPr>
          <p:cNvPr id="353" name="Szövegdoboz 6"/>
          <p:cNvSpPr/>
          <p:nvPr/>
        </p:nvSpPr>
        <p:spPr>
          <a:xfrm>
            <a:off x="604440" y="3643200"/>
            <a:ext cx="63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-scrierea basmelor şi realizarea prezentărilor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-realizarea story board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"/>
          <p:cNvSpPr/>
          <p:nvPr/>
        </p:nvSpPr>
        <p:spPr>
          <a:xfrm>
            <a:off x="2852280" y="571680"/>
            <a:ext cx="3655440" cy="398880"/>
          </a:xfrm>
          <a:prstGeom prst="rect">
            <a:avLst/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ALUAREA PROIEC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zövegdoboz 4"/>
          <p:cNvSpPr/>
          <p:nvPr/>
        </p:nvSpPr>
        <p:spPr>
          <a:xfrm>
            <a:off x="896040" y="121428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ad1f1f"/>
                </a:solidFill>
                <a:uFillTx/>
                <a:latin typeface="Trebuchet MS"/>
                <a:hlinkClick r:id="rId1"/>
              </a:rPr>
              <a:t>test iniţ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zövegdoboz 6"/>
          <p:cNvSpPr/>
          <p:nvPr/>
        </p:nvSpPr>
        <p:spPr>
          <a:xfrm>
            <a:off x="4040280" y="128592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rebuchet MS"/>
              </a:rPr>
              <a:t>test 2 fantasy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zövegdoboz 7"/>
          <p:cNvSpPr/>
          <p:nvPr/>
        </p:nvSpPr>
        <p:spPr>
          <a:xfrm>
            <a:off x="1129680" y="2357280"/>
            <a:ext cx="42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ff"/>
                </a:solidFill>
                <a:uFillTx/>
                <a:latin typeface="Trebuchet MS"/>
              </a:rPr>
              <a:t>Prezentările pps ale elevil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zövegdoboz 8"/>
          <p:cNvSpPr/>
          <p:nvPr/>
        </p:nvSpPr>
        <p:spPr>
          <a:xfrm>
            <a:off x="592920" y="307188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Georgia"/>
                <a:ea typeface="Times New Roman"/>
              </a:rPr>
              <a:t>Grupa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zövegdoboz 9"/>
          <p:cNvSpPr/>
          <p:nvPr/>
        </p:nvSpPr>
        <p:spPr>
          <a:xfrm>
            <a:off x="2862720" y="314316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Grupa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zövegdoboz 10"/>
          <p:cNvSpPr/>
          <p:nvPr/>
        </p:nvSpPr>
        <p:spPr>
          <a:xfrm>
            <a:off x="4933440" y="3071880"/>
            <a:ext cx="126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a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zövegdoboz 11"/>
          <p:cNvSpPr/>
          <p:nvPr/>
        </p:nvSpPr>
        <p:spPr>
          <a:xfrm>
            <a:off x="6935760" y="314316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a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zövegdoboz 12"/>
          <p:cNvSpPr/>
          <p:nvPr/>
        </p:nvSpPr>
        <p:spPr>
          <a:xfrm>
            <a:off x="3359880" y="371484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8:28:36Z</dcterms:created>
  <dc:creator>A</dc:creator>
  <dc:description/>
  <dc:language>en-US</dc:language>
  <cp:lastModifiedBy>abc</cp:lastModifiedBy>
  <dcterms:modified xsi:type="dcterms:W3CDTF">2010-02-23T23:49:53Z</dcterms:modified>
  <cp:revision>27</cp:revision>
  <dc:subject/>
  <dc:title>Slide 1</dc:title>
</cp:coreProperties>
</file>